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2A1690-FD7B-41BF-9EC2-7C63E5C7CFED}"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BA83DFE-F036-4251-AC07-E0307BB64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2884320" y="514440"/>
            <a:ext cx="3375360" cy="2571840"/>
          </a:xfrm>
          <a:prstGeom prst="rect">
            <a:avLst/>
          </a:prstGeom>
          <a:ln w="0">
            <a:noFill/>
          </a:ln>
        </p:spPr>
      </p:sp>
      <p:sp>
        <p:nvSpPr>
          <p:cNvPr id="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8FDCC9E-96E9-4942-A508-3055CB12E9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C747D-41CC-4030-B955-60C3C777E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D6EE-E3B0-4ED6-B57D-BF5DD9C9B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878D4-315D-4533-BE21-79C1EC16B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9D01-F5E3-4E96-BDB0-9E817B9BB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7152-BCB0-41A9-8FB9-E1ECAFDD5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E331-4643-4104-A827-89D6AFFE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6E5EC-7C9E-4FFC-980F-217CFCB24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8A104-484B-44D0-866E-1629293A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85980-3E3B-4BDD-B409-36D1C948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4ACE-39BB-427E-8E6D-F5C96C9A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A121-C983-421A-9B28-866530FD5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8067-C0A1-4771-9A5C-E3F2A9A3E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03015F-A065-4681-AF51-EBD4C6E71C7D}"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FE1A71A-305D-4094-9383-493298BD7CEE}"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4052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Vocabulary</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Dictionary Guide Words</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Look up the following words in the dictionary.  Write the guide words for each word: peaceful, freedom, love, harmony</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elebration  </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24696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Phonics: Common Syllables  –tion an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tur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Divide the following  words into syllables.  Then write a sentence for each word.  Underline the word. (ex. pic/ture; I will hang the </a:t>
            </a:r>
            <a:r>
              <a:rPr b="1" lang="en-US" sz="1200" spc="-1" strike="noStrike" u="sng">
                <a:solidFill>
                  <a:srgbClr val="000000"/>
                </a:solidFill>
                <a:uFillTx/>
                <a:latin typeface="Comic Sans MS"/>
              </a:rPr>
              <a:t>picture</a:t>
            </a:r>
            <a:r>
              <a:rPr b="1" lang="en-US" sz="1200" spc="-1" strike="noStrike">
                <a:solidFill>
                  <a:srgbClr val="000000"/>
                </a:solidFill>
                <a:latin typeface="Comic Sans MS"/>
              </a:rPr>
              <a:t> on the wall.)</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Nature  lotion   action   celebration mixture  vacation  furniture</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Paren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Initials________    </a:t>
            </a:r>
            <a:endParaRPr b="0" lang="en-US" sz="1200" spc="-1" strike="noStrike">
              <a:solidFill>
                <a:srgbClr val="000000"/>
              </a:solidFill>
              <a:latin typeface="Arial"/>
            </a:endParaRPr>
          </a:p>
        </p:txBody>
      </p:sp>
      <p:sp>
        <p:nvSpPr>
          <p:cNvPr id="54" name="TextBox 13"/>
          <p:cNvSpPr/>
          <p:nvPr/>
        </p:nvSpPr>
        <p:spPr>
          <a:xfrm>
            <a:off x="3200400" y="4952880"/>
            <a:ext cx="3352680" cy="25938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 Phonics (ee, ea)</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Categorize long e words.  Use your spelling words or words from the tex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ex. cl</a:t>
            </a:r>
            <a:r>
              <a:rPr b="0" lang="en-US" sz="1400" spc="-1" strike="noStrike" u="sng">
                <a:solidFill>
                  <a:srgbClr val="000000"/>
                </a:solidFill>
                <a:uFillTx/>
                <a:latin typeface="Calibri"/>
              </a:rPr>
              <a:t>ea</a:t>
            </a:r>
            <a:r>
              <a:rPr b="0" lang="en-US" sz="1400" spc="-1" strike="noStrike">
                <a:solidFill>
                  <a:srgbClr val="000000"/>
                </a:solidFill>
                <a:latin typeface="Calibri"/>
              </a:rPr>
              <a:t>n, k</a:t>
            </a:r>
            <a:r>
              <a:rPr b="0" lang="en-US" sz="1400" spc="-1" strike="noStrike" u="sng">
                <a:solidFill>
                  <a:srgbClr val="000000"/>
                </a:solidFill>
                <a:uFillTx/>
                <a:latin typeface="Calibri"/>
              </a:rPr>
              <a:t>ee</a:t>
            </a:r>
            <a:r>
              <a:rPr b="0" lang="en-US" sz="1400" spc="-1" strike="noStrike">
                <a:solidFill>
                  <a:srgbClr val="000000"/>
                </a:solidFill>
                <a:latin typeface="Calibri"/>
              </a:rPr>
              <a:t>p)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1739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letter to Dr. Martin Luther King, Jr. telling him why we celebrate his birthday.  As you write details about your topic in your letter, don’t forget to tell enough.  Tell how you feel about the topic and details.  Add words that tell when, where, why, or how.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Jamaica Louise James.</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06:41:52Z</dcterms:created>
  <dc:creator> </dc:creator>
  <dc:description/>
  <dc:language>en-US</dc:language>
  <cp:lastModifiedBy> </cp:lastModifiedBy>
  <cp:lastPrinted>2010-01-05T12:28:54Z</cp:lastPrinted>
  <dcterms:modified xsi:type="dcterms:W3CDTF">2010-08-11T00:57:41Z</dcterms:modified>
  <cp:revision>31</cp:revision>
  <dc:subject/>
  <dc:title>Slide 1</dc:title>
</cp:coreProperties>
</file>